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6AD5B-09DD-4F24-B97E-360AB146A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46A7-1058-446B-8DC4-B5A7BF9C1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77425-FB14-4D89-857C-CC80FABEF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646CE-4AF1-4C2E-98C1-60B3DB5C1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5AB17-4C02-4EA4-8B81-56EABD062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709B0-7179-4B8E-8516-C1C2BBC70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85DA8-F353-45B5-9F0A-9BF995BE1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D7173-04D2-4DEC-859F-D4F530248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7391B-6A0F-43EB-BCBD-B3CDF183E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16763-42DA-4C9F-AFA0-195CFFCB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6865C-0F75-4F03-9205-CBF54D8A6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2725-DAF1-48E6-A0C6-02D90CE77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9C03F-5DCA-4383-8602-DD046B5D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47CD4-8FD6-440B-B3C0-CC4039D6C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0EA16-85FE-46FE-BA29-4F16EDE1A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2F601-CACE-4BCC-B296-6F0058E0E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D664C-29DF-4A52-AC04-4330E7231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C100-BAD2-4237-A485-F347EFCDD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3FCB-B86E-4B53-AE1A-AED4E73C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802F6-B186-4811-86DA-34A99531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C197-8740-4B0B-9969-2DF840EE3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B0D1-62D3-4A09-9FB5-EADB6B80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3222-5FFE-40CB-AC2B-70A05D20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C431-2511-4A33-9F0A-D914DB71C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C33C-2A3F-4A42-99AB-20C2FFD946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FBFD-7AF5-4280-89FF-09FBA4782D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83"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ORTS MEDICINE</a:t>
            </a:r>
            <a:endParaRPr b="0" lang="en-US" sz="1800" spc="-1" strike="noStrike">
              <a:solidFill>
                <a:srgbClr val="000000"/>
              </a:solidFill>
              <a:latin typeface="Arial"/>
            </a:endParaRPr>
          </a:p>
        </p:txBody>
      </p:sp>
      <p:sp>
        <p:nvSpPr>
          <p:cNvPr id="84" name="Rectangle 9"/>
          <p:cNvSpPr/>
          <p:nvPr/>
        </p:nvSpPr>
        <p:spPr>
          <a:xfrm>
            <a:off x="539640" y="2637000"/>
            <a:ext cx="7777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1</a:t>
            </a:r>
            <a:r>
              <a:rPr b="1" lang="en-US" sz="2200" spc="-1" strike="noStrike" baseline="30000">
                <a:solidFill>
                  <a:srgbClr val="000000"/>
                </a:solidFill>
                <a:latin typeface="Calibri"/>
              </a:rPr>
              <a:t>th</a:t>
            </a:r>
            <a:r>
              <a:rPr b="1" lang="en-US" sz="2200" spc="-1" strike="noStrike">
                <a:solidFill>
                  <a:srgbClr val="000000"/>
                </a:solidFill>
                <a:latin typeface="Calibri"/>
              </a:rPr>
              <a:t> teaching unit (eleven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ORTS CARDIOLOGY</a:t>
            </a:r>
            <a:endParaRPr b="0" lang="en-US" sz="4400" spc="-1" strike="noStrike">
              <a:solidFill>
                <a:srgbClr val="000000"/>
              </a:solidFill>
              <a:latin typeface="Arial"/>
            </a:endParaRPr>
          </a:p>
        </p:txBody>
      </p:sp>
      <p:pic>
        <p:nvPicPr>
          <p:cNvPr id="85"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68360" y="2060640"/>
            <a:ext cx="79912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hocardiography (ultrasound of the heart) </a:t>
            </a:r>
            <a:r>
              <a:rPr b="1" lang="en-US" sz="2400" spc="-1" strike="noStrike">
                <a:solidFill>
                  <a:srgbClr val="000000"/>
                </a:solidFill>
                <a:latin typeface="Calibri"/>
              </a:rPr>
              <a:t>monitors the anatomy of the heart: the shape and size of the heart cavities, valves and strength of heart contractions</a:t>
            </a:r>
            <a:r>
              <a:rPr b="1" lang="sr-Latn-R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rgometry </a:t>
            </a:r>
            <a:r>
              <a:rPr b="1" lang="en-US" sz="2400" spc="-1" strike="noStrike">
                <a:solidFill>
                  <a:srgbClr val="000000"/>
                </a:solidFill>
                <a:latin typeface="Calibri"/>
              </a:rPr>
              <a:t>monitors the function of the heart, i.e. its ability to pump enough blood into the circulation during a certain physical effor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G Holter </a:t>
            </a:r>
            <a:r>
              <a:rPr b="1" lang="en-US" sz="2400" spc="-1" strike="noStrike">
                <a:solidFill>
                  <a:srgbClr val="000000"/>
                </a:solidFill>
                <a:latin typeface="Calibri"/>
              </a:rPr>
              <a:t>monitors the number and character of heart contractions by continuous monitoring during 24 hours.</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Magnetic resonance </a:t>
            </a:r>
            <a:r>
              <a:rPr b="1" lang="en-US" sz="2400" spc="-1" strike="noStrike">
                <a:solidFill>
                  <a:srgbClr val="000000"/>
                </a:solidFill>
                <a:latin typeface="Calibri"/>
              </a:rPr>
              <a:t>is used to determine the finest structure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2"/>
          <p:cNvSpPr/>
          <p:nvPr/>
        </p:nvSpPr>
        <p:spPr>
          <a:xfrm>
            <a:off x="826920" y="907920"/>
            <a:ext cx="718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nostics of sports heart and myocardiopathies</a:t>
            </a:r>
            <a:endParaRPr b="0" lang="en-US" sz="2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95280" y="1700280"/>
            <a:ext cx="8137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t is a weakness of the heart with insufficient function, and is characterized by enlargement of the left and/or right heart chambers, thinning of the walls of the heart cavities, and a decrease in the heart's power to pump blood</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of the heart is increased, and the thickness of the heart muscle is decreas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ause of this, the heart is weaker and is not able to pump enough blood for a person to do sports or function normall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blood remains in the heart, and less is pumped out, and fluid accumulates in the lungs.</a:t>
            </a:r>
            <a:endParaRPr b="0" lang="en-US" sz="2400" spc="-1" strike="noStrike">
              <a:solidFill>
                <a:srgbClr val="000000"/>
              </a:solidFill>
              <a:latin typeface="Arial"/>
            </a:endParaRPr>
          </a:p>
        </p:txBody>
      </p:sp>
      <p:sp>
        <p:nvSpPr>
          <p:cNvPr id="106"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2060640"/>
            <a:ext cx="8785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uses of dilated myocardiopathy are:</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myocarditis,</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genetic predisposition,</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oronary disease (angina pectoris or heart attack),</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hronic alcoholis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
          <p:cNvSpPr/>
          <p:nvPr/>
        </p:nvSpPr>
        <p:spPr>
          <a:xfrm>
            <a:off x="826920" y="765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826920" y="83664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lated myocardiopathy</a:t>
            </a:r>
            <a:endParaRPr b="0" lang="en-US" sz="3200" spc="-1" strike="noStrike">
              <a:solidFill>
                <a:srgbClr val="000000"/>
              </a:solidFill>
              <a:latin typeface="Arial"/>
            </a:endParaRPr>
          </a:p>
        </p:txBody>
      </p:sp>
      <p:pic>
        <p:nvPicPr>
          <p:cNvPr id="111" name="Picture 2" descr=""/>
          <p:cNvPicPr/>
          <p:nvPr/>
        </p:nvPicPr>
        <p:blipFill>
          <a:blip r:embed="rId1"/>
          <a:stretch/>
        </p:blipFill>
        <p:spPr>
          <a:xfrm>
            <a:off x="468360" y="1879560"/>
            <a:ext cx="7775640" cy="4425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468360" y="1989000"/>
            <a:ext cx="799128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est pain,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rtness of breath,</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rtigo,</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ss of consciousness,</a:t>
            </a:r>
            <a:endParaRPr b="0" lang="en-US" sz="2400" spc="-1" strike="noStrike">
              <a:solidFill>
                <a:srgbClr val="000000"/>
              </a:solidFill>
              <a:latin typeface="Arial"/>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times the first symptom of pathological enlargement of the left heart chamber is sudden cardiac death</a:t>
            </a:r>
            <a:r>
              <a:rPr b="1" lang="sr-Latn-RS" sz="2400" spc="-1" strike="noStrike">
                <a:solidFill>
                  <a:srgbClr val="000000"/>
                </a:solidFill>
                <a:latin typeface="Calibri"/>
              </a:rPr>
              <a:t>!</a:t>
            </a:r>
            <a:endParaRPr b="0" lang="en-US" sz="2400" spc="-1" strike="noStrike">
              <a:solidFill>
                <a:srgbClr val="000000"/>
              </a:solidFill>
              <a:latin typeface="Arial"/>
            </a:endParaRPr>
          </a:p>
          <a:p>
            <a:pPr marL="514440" indent="-514440" algn="ctr">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hysician examination</a:t>
            </a:r>
            <a:r>
              <a:rPr b="1" lang="sr-Latn-RS" sz="2400" spc="-1" strike="noStrike">
                <a:solidFill>
                  <a:srgbClr val="c00000"/>
                </a:solidFill>
                <a:latin typeface="Calibri"/>
              </a:rPr>
              <a:t>: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heart murmur is auscultated.</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ltrasound of the heart: pathological thickening or thinning of the wall of the left ventricle and heart septum.</a:t>
            </a:r>
            <a:endParaRPr b="0" lang="en-US" sz="24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2"/>
          <p:cNvSpPr/>
          <p:nvPr/>
        </p:nvSpPr>
        <p:spPr>
          <a:xfrm>
            <a:off x="324000" y="692280"/>
            <a:ext cx="8496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mptoms and signs of the disease​</a:t>
            </a:r>
            <a:endParaRPr b="0" lang="en-US" sz="2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50920" y="1844640"/>
            <a:ext cx="842472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loses strength and gets tired quickly.</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sometimes suddenly loses consciousness.</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n arrhythmia is detected in the EKG of a young and healthy person (athlete).</a:t>
            </a:r>
            <a:endParaRPr b="0" lang="en-US" sz="26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en is myocardiopathy suspected?</a:t>
            </a:r>
            <a:endParaRPr b="0" lang="en-US" sz="2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2"/>
          <p:cNvSpPr/>
          <p:nvPr/>
        </p:nvSpPr>
        <p:spPr>
          <a:xfrm>
            <a:off x="0" y="404640"/>
            <a:ext cx="8820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orts heart and hypertrophic heart failure</a:t>
            </a:r>
            <a:endParaRPr b="0" lang="en-US" sz="2800" spc="-1" strike="noStrike">
              <a:solidFill>
                <a:srgbClr val="000000"/>
              </a:solidFill>
              <a:latin typeface="Arial"/>
            </a:endParaRPr>
          </a:p>
        </p:txBody>
      </p:sp>
      <p:graphicFrame>
        <p:nvGraphicFramePr>
          <p:cNvPr id="118" name=""/>
          <p:cNvGraphicFramePr/>
          <p:nvPr/>
        </p:nvGraphicFramePr>
        <p:xfrm>
          <a:off x="1187280" y="1413000"/>
          <a:ext cx="6858000" cy="4922640"/>
        </p:xfrm>
        <a:graphic>
          <a:graphicData uri="http://schemas.openxmlformats.org/drawingml/2006/table">
            <a:tbl>
              <a:tblPr/>
              <a:tblGrid>
                <a:gridCol w="2286000"/>
                <a:gridCol w="2286000"/>
                <a:gridCol w="2286000"/>
              </a:tblGrid>
              <a:tr h="10317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sr-Latn-RS" sz="2400" spc="-1" strike="noStrike">
                          <a:solidFill>
                            <a:srgbClr val="ff0000"/>
                          </a:solidFill>
                          <a:latin typeface="Calibri"/>
                        </a:rPr>
                        <a:t>Paramet</a:t>
                      </a:r>
                      <a:r>
                        <a:rPr b="1" lang="en-US" sz="2400" spc="-1" strike="noStrike">
                          <a:solidFill>
                            <a:srgbClr val="ff0000"/>
                          </a:solidFill>
                          <a:latin typeface="Calibri"/>
                        </a:rPr>
                        <a:t>e</a:t>
                      </a:r>
                      <a:r>
                        <a:rPr b="1" lang="sr-Latn-RS" sz="2400" spc="-1" strike="noStrike">
                          <a:solidFill>
                            <a:srgbClr val="ff0000"/>
                          </a:solidFill>
                          <a:latin typeface="Calibri"/>
                        </a:rPr>
                        <a:t>r</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Sports heart</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Hypertrophic myocardiopathy</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wall thickness</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l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g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hypertroph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Concentric</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imetric</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The size of the left ventricular cavit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76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Diastole (ventricle filling)</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inish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The size of the left coronary arter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11280" y="1989000"/>
            <a:ext cx="7848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Myocarditis - </a:t>
            </a:r>
            <a:r>
              <a:rPr b="1" lang="en-US" sz="2600" spc="-1" strike="noStrike">
                <a:solidFill>
                  <a:srgbClr val="000000"/>
                </a:solidFill>
                <a:latin typeface="Calibri"/>
              </a:rPr>
              <a:t>inflammation of the heart muscle.</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ericarditis - </a:t>
            </a:r>
            <a:r>
              <a:rPr b="1" lang="en-US" sz="2600" spc="-1" strike="noStrike">
                <a:solidFill>
                  <a:srgbClr val="000000"/>
                </a:solidFill>
                <a:latin typeface="Calibri"/>
              </a:rPr>
              <a:t>inflammation of the peri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Endocarditis - </a:t>
            </a:r>
            <a:r>
              <a:rPr b="1" lang="en-US" sz="2600" spc="-1" strike="noStrike">
                <a:solidFill>
                  <a:srgbClr val="000000"/>
                </a:solidFill>
                <a:latin typeface="Calibri"/>
              </a:rPr>
              <a:t>inflammation of the endo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ancarditis - </a:t>
            </a:r>
            <a:r>
              <a:rPr b="1" lang="en-US" sz="2600" spc="-1" strike="noStrike">
                <a:solidFill>
                  <a:srgbClr val="000000"/>
                </a:solidFill>
                <a:latin typeface="Calibri"/>
              </a:rPr>
              <a:t>inflammation of the whole heart</a:t>
            </a:r>
            <a:r>
              <a:rPr b="1" lang="sr-Latn-RS" sz="2600" spc="-1" strike="noStrike">
                <a:solidFill>
                  <a:srgbClr val="000000"/>
                </a:solidFill>
                <a:latin typeface="Calibri"/>
              </a:rPr>
              <a: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ach of these heart attacks can leave as a permanent consequence the development of dilated myocardiopathy, a chronic heart failure that has a bad prognosis for health and even for lif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95280" y="206064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tis is most often caused by Coxsackie viruses, but it can also be caused by many other viruses and bacteria, most often after mild respiratory tract infection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ysical activity during viral infections increases the risk of developing myocardit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mptoms and signs of myocarditis: fever, easily elevated temperature, weakness, pronounced loss of strength, dull pain in the heart area, low blood pressure, rapid pulse, various arrhythmia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191628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thletes and recreational players should have regular medical examinations.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xamination should be performed by a doctor specializing in sports medicine, every 6 month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necessary, additional examinations are carried ou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cooperation of coaches and doctors in the team is extremely important for preserving and improving the health of athlete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heart disease in athletes</a:t>
            </a:r>
            <a:endParaRPr b="0" lang="en-US" sz="3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24000" y="2492280"/>
            <a:ext cx="8351640" cy="2881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great physical effort, the heart rate increases up to 200-250 beats per minut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troke volume can reach up to 250 ml, and the CO up to 35 liters of blood</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hows how hard sport is for the heart, but also for the whole organism</a:t>
            </a:r>
            <a:endParaRPr b="0" lang="en-US" sz="2200" spc="-1" strike="noStrike">
              <a:solidFill>
                <a:srgbClr val="000000"/>
              </a:solidFill>
              <a:latin typeface="Arial"/>
            </a:endParaRPr>
          </a:p>
        </p:txBody>
      </p:sp>
      <p:sp>
        <p:nvSpPr>
          <p:cNvPr id="87"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79280" y="1844640"/>
            <a:ext cx="921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fortunately, mistakes often happen in practice:</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     </a:t>
            </a:r>
            <a:r>
              <a:rPr b="1" lang="sr-Latn-RS" sz="2600" spc="-1" strike="noStrike">
                <a:solidFill>
                  <a:srgbClr val="000000"/>
                </a:solidFill>
                <a:latin typeface="Calibri"/>
              </a:rPr>
              <a:t>	</a:t>
            </a:r>
            <a:r>
              <a:rPr b="1" lang="en-US" sz="2600" spc="-1" strike="noStrike">
                <a:solidFill>
                  <a:srgbClr val="000000"/>
                </a:solidFill>
                <a:latin typeface="Calibri"/>
              </a:rPr>
              <a:t>1. Athletes are not examined on every 6 mon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2. Examinations are performed by unqualified staff,</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3. Examinations are performed in inadequate conditions,</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4. Examinations are not complet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ectangle 2"/>
          <p:cNvSpPr/>
          <p:nvPr/>
        </p:nvSpPr>
        <p:spPr>
          <a:xfrm>
            <a:off x="755640" y="981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dical examinations of athletes</a:t>
            </a:r>
            <a:endParaRPr b="0" lang="en-US" sz="2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extBox 14" descr=""/>
          <p:cNvPicPr/>
          <p:nvPr/>
        </p:nvPicPr>
        <p:blipFill>
          <a:blip r:embed="rId1"/>
          <a:stretch/>
        </p:blipFill>
        <p:spPr>
          <a:xfrm>
            <a:off x="1749600" y="2236680"/>
            <a:ext cx="5644800" cy="18478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11280" y="1557360"/>
            <a:ext cx="777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ccurs in young people (up to 30 years) from 1.3 to 8.5 cases per 100,000 respondents per year.</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more common in men.</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ery year, several thousand Americans under the age of 20 die suddenly and unexpectedly from a variety of cau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250920" y="1844640"/>
            <a:ext cx="86421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dden death of athletes </a:t>
            </a:r>
            <a:r>
              <a:rPr b="1" lang="en-US" sz="2400" spc="-1" strike="noStrike">
                <a:solidFill>
                  <a:srgbClr val="000000"/>
                </a:solidFill>
                <a:latin typeface="Calibri"/>
              </a:rPr>
              <a:t>is defined as sudden cardiac arrest and death that occurs within six hours, in persons engaged in sports, who were previously in good healt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main characteristic of this phenomenon is that it typically occurs </a:t>
            </a:r>
            <a:r>
              <a:rPr b="1" lang="en-US" sz="2400" spc="-1" strike="noStrike">
                <a:solidFill>
                  <a:srgbClr val="ff0000"/>
                </a:solidFill>
                <a:latin typeface="Calibri"/>
              </a:rPr>
              <a:t>during or immediately after training, i.e. competition, i.e. after intense physical effort as a causative factor</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f athletes is a very current probl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the subject of research by experts in all medicine, especially sports medicine, but also by many other experts in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24000" y="1844640"/>
            <a:ext cx="8351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expected death occurs </a:t>
            </a:r>
            <a:r>
              <a:rPr b="1" lang="en-US" sz="2600" spc="-1" strike="noStrike">
                <a:solidFill>
                  <a:srgbClr val="000000"/>
                </a:solidFill>
                <a:latin typeface="Calibri"/>
              </a:rPr>
              <a:t>due to the sudden cessation of heart function, often without previous symptoms, in persons who may or may not be heart patients, and are most often younger.</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occurs suddenly and without any war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is most often associated with cardiac arrhythmia, and often only one hour passes from the first symptoms to dea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95280" y="177336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rst case of sudden cardiac death due to physical exertion was the Greek Philippides. In 490 year. B. C. he ran from the Marathon field to Athens (42 km), in order to spread the news of the victory of the Athenians over the Persians as soon as possibl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fter the news was announce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udden death of athletes is an increasingly common occurrence on sports fields for football, basketball, athletics, cycling, etc.</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re are data in the literature that in the 21</a:t>
            </a:r>
            <a:r>
              <a:rPr b="1" lang="en-US" sz="2400" spc="-1" strike="noStrike" baseline="30000">
                <a:solidFill>
                  <a:srgbClr val="000000"/>
                </a:solidFill>
                <a:latin typeface="Calibri"/>
              </a:rPr>
              <a:t>st</a:t>
            </a:r>
            <a:r>
              <a:rPr b="1" lang="en-US" sz="2400" spc="-1" strike="noStrike">
                <a:solidFill>
                  <a:srgbClr val="000000"/>
                </a:solidFill>
                <a:latin typeface="Calibri"/>
              </a:rPr>
              <a:t> century, one sudden cardiac death occurs for every 396,000 hours of jogging, 13,000 to 26,000 hours of skiing or 5,000 hours of playing rugb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1844640"/>
            <a:ext cx="8353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1" lang="en-US" sz="2400" spc="-1" strike="noStrike">
                <a:solidFill>
                  <a:srgbClr val="000000"/>
                </a:solidFill>
                <a:latin typeface="Calibri"/>
              </a:rPr>
              <a:t>In men's football, the risk of sudden death is 1 case per 23,689 players, and in basketball it is significantly higher - 1:8,978 player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xplanation: </a:t>
            </a:r>
            <a:r>
              <a:rPr b="1" lang="en-US" sz="2400" spc="-1" strike="noStrike">
                <a:solidFill>
                  <a:srgbClr val="000000"/>
                </a:solidFill>
                <a:latin typeface="Calibri"/>
              </a:rPr>
              <a:t>basketball is a more demanding and explosive sport with phases of sudden and high-intensity sprinting, with a lot of jumps and holding the arms high above the head, which is an additional effo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 a rule, basketball players are taller than average, so some of them have the so-called Marfan's syndrome (weakness of the walls of large blood vessels), so the frequency of rupture of the aortic wall (dissection of aortic aneurysm) is increased among th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68360" y="1844640"/>
            <a:ext cx="750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Match for a heart attack", </a:t>
            </a:r>
            <a:r>
              <a:rPr b="1" lang="en-US" sz="2400" spc="-1" strike="noStrike">
                <a:solidFill>
                  <a:srgbClr val="000000"/>
                </a:solidFill>
                <a:latin typeface="Calibri"/>
              </a:rPr>
              <a:t>is a frequent phrase of sports commentators, but sometimes it is also cruelly tru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is also confirmed by the case of the recently deceased Sevilla football player Antonio Puerta, who fell and lost consciousness during the matc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quick reaction of Serbian player Ivica Dragutinović and the medical staff, Puerta got up and left the sta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on the way to the hospital, a series of new heart attacks followed an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VIDEO: Spanje huilt om Puerta | Het Nieuwsblad Mobile"/>
          <p:cNvPicPr/>
          <p:nvPr/>
        </p:nvPicPr>
        <p:blipFill>
          <a:blip r:embed="rId1"/>
          <a:stretch/>
        </p:blipFill>
        <p:spPr>
          <a:xfrm>
            <a:off x="1428840" y="914400"/>
            <a:ext cx="5943600" cy="528156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chael Ojo: What knock down Red Star's giant?</a:t>
            </a:r>
            <a:endParaRPr b="0" lang="en-US" sz="3000" spc="-1" strike="noStrike">
              <a:solidFill>
                <a:srgbClr val="000000"/>
              </a:solidFill>
              <a:latin typeface="Arial"/>
            </a:endParaRPr>
          </a:p>
        </p:txBody>
      </p:sp>
      <p:pic>
        <p:nvPicPr>
          <p:cNvPr id="143" name="Picture 2" descr=""/>
          <p:cNvPicPr/>
          <p:nvPr/>
        </p:nvPicPr>
        <p:blipFill>
          <a:blip r:embed="rId1"/>
          <a:stretch/>
        </p:blipFill>
        <p:spPr>
          <a:xfrm>
            <a:off x="1403280" y="2276640"/>
            <a:ext cx="6145200" cy="40338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24000" y="1844640"/>
            <a:ext cx="8569080" cy="3529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olic blood pressure (TA) increases up to 250 mmHg</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accumulation of lactic acid (lactates), the metabolism increases. Due to tissue hypoxia and hypoglycemia, the metabolism (Krebs cycle) switches to anaerobic glycolysis, with an even greater synthesis of lactate, which is toxic to the myocardium and blood vessels (lactic acidos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these changes can lead to the sudden death of an athlete, especially in people who have congenital defects of the heart or blood vessels, or damage to the myocar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2"/>
          <p:cNvSpPr/>
          <p:nvPr/>
        </p:nvSpPr>
        <p:spPr>
          <a:xfrm>
            <a:off x="324000" y="98100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th of David Astoria, captain of FC Fiorentina</a:t>
            </a:r>
            <a:endParaRPr b="0" lang="en-US" sz="2800" spc="-1" strike="noStrike">
              <a:solidFill>
                <a:srgbClr val="000000"/>
              </a:solidFill>
              <a:latin typeface="Arial"/>
            </a:endParaRPr>
          </a:p>
        </p:txBody>
      </p:sp>
      <p:pic>
        <p:nvPicPr>
          <p:cNvPr id="146" name="Picture 2" descr=""/>
          <p:cNvPicPr/>
          <p:nvPr/>
        </p:nvPicPr>
        <p:blipFill>
          <a:blip r:embed="rId1"/>
          <a:stretch/>
        </p:blipFill>
        <p:spPr>
          <a:xfrm>
            <a:off x="1908000" y="2060640"/>
            <a:ext cx="5234040" cy="443232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24000" y="1844640"/>
            <a:ext cx="8820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ronary heart disease: a common cause (80%) of sudden cardiac death. </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25%, sudden death is the first manifestatio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ypertrophic and dilated cardiomyopathy.</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Myocardit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eart defects: mitral valve prolapse and aortic stenos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Cardiac arrhythmia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Rupture of an artery aneurysm in the heart or brai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 kick to the chest.</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rug use (cocaine, heroin, etc.).</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buse: alcohol, nicotine, doping, anabolics, steroids, proteins and some stimulants.</a:t>
            </a:r>
            <a:br>
              <a:rPr sz="2200"/>
            </a:br>
            <a:r>
              <a:rPr b="0" lang="sr-Latn-RS" sz="2200" spc="-1" strike="noStrike">
                <a:solidFill>
                  <a:srgbClr val="000000"/>
                </a:solidFill>
                <a:latin typeface="Calibri"/>
              </a:rPr>
              <a:t>.</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Rectangle 2"/>
          <p:cNvSpPr/>
          <p:nvPr/>
        </p:nvSpPr>
        <p:spPr>
          <a:xfrm>
            <a:off x="468360" y="69228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ff0000"/>
                </a:solidFill>
                <a:latin typeface="Arial"/>
              </a:rPr>
              <a:t> </a:t>
            </a:r>
            <a:r>
              <a:rPr b="1" lang="en-US" sz="3200" spc="-1" strike="noStrike">
                <a:solidFill>
                  <a:srgbClr val="ff0000"/>
                </a:solidFill>
                <a:latin typeface="Arial"/>
              </a:rPr>
              <a:t>Causes of sudden death of athletes</a:t>
            </a:r>
            <a:endParaRPr b="0" lang="en-US" sz="32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24000" y="1844640"/>
            <a:ext cx="842472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So far, more than 20 different pathological conditions have been identified that can be the cause of sudden cardiac death in athlete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owever, there are a few most common on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Hypertrophic myocardiopathy </a:t>
            </a:r>
            <a:r>
              <a:rPr b="1" lang="en-US" sz="2400" spc="-1" strike="noStrike">
                <a:solidFill>
                  <a:srgbClr val="000000"/>
                </a:solidFill>
                <a:latin typeface="Arial"/>
              </a:rPr>
              <a:t>- about 25-45%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Anomalies of the heart arteries </a:t>
            </a:r>
            <a:r>
              <a:rPr b="1" lang="en-US" sz="2400" spc="-1" strike="noStrike">
                <a:solidFill>
                  <a:srgbClr val="000000"/>
                </a:solidFill>
                <a:latin typeface="Arial"/>
              </a:rPr>
              <a:t>- about 18%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oronary artery disease </a:t>
            </a:r>
            <a:r>
              <a:rPr b="1" lang="en-US" sz="2400" spc="-1" strike="noStrike">
                <a:solidFill>
                  <a:srgbClr val="000000"/>
                </a:solidFill>
                <a:latin typeface="Arial"/>
              </a:rPr>
              <a:t>- about 14%.</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Myocarditis </a:t>
            </a:r>
            <a:r>
              <a:rPr b="1" lang="en-US" sz="2400" spc="-1" strike="noStrike">
                <a:solidFill>
                  <a:srgbClr val="000000"/>
                </a:solidFill>
                <a:latin typeface="Arial"/>
              </a:rPr>
              <a:t>- about 12% of all sudden cardiac death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Risk factors in athletes</a:t>
            </a:r>
            <a:endParaRPr b="0" lang="en-US" sz="30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24000" y="1989000"/>
            <a:ext cx="8135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imary prevention: </a:t>
            </a:r>
            <a:r>
              <a:rPr b="1" lang="en-US" sz="2400" spc="-1" strike="noStrike">
                <a:solidFill>
                  <a:srgbClr val="000000"/>
                </a:solidFill>
                <a:latin typeface="Calibri"/>
              </a:rPr>
              <a:t>detailed systematic and control examinations.</a:t>
            </a: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econdary prevention: </a:t>
            </a:r>
            <a:r>
              <a:rPr b="1" lang="en-US" sz="2400" spc="-1" strike="noStrike">
                <a:solidFill>
                  <a:srgbClr val="000000"/>
                </a:solidFill>
                <a:latin typeface="Calibri"/>
              </a:rPr>
              <a:t>getting an automatic external defibrillator for resuscitation, which can in some cases restore normal heart action and thus prevent death from sudden cardiac arres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sudden death in athletes</a:t>
            </a:r>
            <a:endParaRPr b="0" lang="en-US" sz="30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755640" y="105264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PR courses!</a:t>
            </a:r>
            <a:endParaRPr b="0" lang="en-US" sz="3600" spc="-1" strike="noStrike">
              <a:solidFill>
                <a:srgbClr val="000000"/>
              </a:solidFill>
              <a:latin typeface="Arial"/>
            </a:endParaRPr>
          </a:p>
        </p:txBody>
      </p:sp>
      <p:pic>
        <p:nvPicPr>
          <p:cNvPr id="154" name="Picture 7" descr="High Performance CPR - RTS Training"/>
          <p:cNvPicPr/>
          <p:nvPr/>
        </p:nvPicPr>
        <p:blipFill>
          <a:blip r:embed="rId1"/>
          <a:stretch/>
        </p:blipFill>
        <p:spPr>
          <a:xfrm>
            <a:off x="1258920" y="2205000"/>
            <a:ext cx="5854680" cy="390384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370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Calibri"/>
              </a:rPr>
              <a:t>Thank you for your attention!</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e course of many years of regular sports, changes occur in the structure of the heart, and its functional capacity also chang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and mass of the heart muscle </a:t>
            </a:r>
            <a:r>
              <a:rPr b="1" lang="en-US" sz="2400" spc="-1" strike="noStrike">
                <a:solidFill>
                  <a:srgbClr val="ff0000"/>
                </a:solidFill>
                <a:latin typeface="Calibri"/>
              </a:rPr>
              <a:t>increases</a:t>
            </a:r>
            <a:r>
              <a:rPr b="1" lang="en-US" sz="2400" spc="-1" strike="noStrike">
                <a:solidFill>
                  <a:srgbClr val="000000"/>
                </a:solidFill>
                <a:latin typeface="Calibri"/>
              </a:rPr>
              <a:t>, especially the left ventricle and the septum. This </a:t>
            </a:r>
            <a:r>
              <a:rPr b="1" lang="en-US" sz="2400" spc="-1" strike="noStrike">
                <a:solidFill>
                  <a:srgbClr val="ff0000"/>
                </a:solidFill>
                <a:latin typeface="Calibri"/>
              </a:rPr>
              <a:t>HEART HYPERTROPHY </a:t>
            </a:r>
            <a:r>
              <a:rPr b="1" lang="en-US" sz="2400" spc="-1" strike="noStrike">
                <a:solidFill>
                  <a:srgbClr val="000000"/>
                </a:solidFill>
                <a:latin typeface="Calibri"/>
              </a:rPr>
              <a:t>in athletes and physical workers is a normal phenomenon and is called </a:t>
            </a:r>
            <a:r>
              <a:rPr b="1" lang="en-US" sz="2400" spc="-1" strike="noStrike">
                <a:solidFill>
                  <a:srgbClr val="ff0000"/>
                </a:solidFill>
                <a:latin typeface="Calibri"/>
              </a:rPr>
              <a:t>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ing each contraction, the sports heart can receive a larger amount of blood in its cavities and </a:t>
            </a:r>
            <a:r>
              <a:rPr b="1" lang="sr-Latn-RS" sz="2400" spc="-1" strike="noStrike">
                <a:solidFill>
                  <a:srgbClr val="000000"/>
                </a:solidFill>
                <a:latin typeface="Calibri"/>
              </a:rPr>
              <a:t>eject </a:t>
            </a:r>
            <a:r>
              <a:rPr b="1" lang="en-US" sz="2400" spc="-1" strike="noStrike">
                <a:solidFill>
                  <a:srgbClr val="000000"/>
                </a:solidFill>
                <a:latin typeface="Calibri"/>
              </a:rPr>
              <a:t>that blood into the circulation. This enables the normal functioning of all organs in extreme conditions, such as during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1557360"/>
            <a:ext cx="9144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The sports heart </a:t>
            </a:r>
            <a:r>
              <a:rPr b="1" lang="en-US" sz="2600" spc="-1" strike="noStrike">
                <a:solidFill>
                  <a:srgbClr val="000000"/>
                </a:solidFill>
                <a:latin typeface="Calibri"/>
              </a:rPr>
              <a:t>is defined as a set of morpho-functional adaptations of the heart, which develop over time under the influence of trai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fact, there is an increase in the heart as a whole, which implies an increase in the heart cavities and the thickness of the heart walls, as well as a decrease in the heart rate, all of which contribute to the increased efficiency of the heart's work both at rest and under conditions of physical exertion</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the sports heart, the wall thickness of the (left) heart chamber and heart septum increases </a:t>
            </a:r>
            <a:r>
              <a:rPr b="1" lang="en-US" sz="2600" spc="-1" strike="noStrike">
                <a:solidFill>
                  <a:srgbClr val="ff0000"/>
                </a:solidFill>
                <a:latin typeface="Calibri"/>
              </a:rPr>
              <a:t>EVENLY</a:t>
            </a:r>
            <a:endParaRPr b="0" lang="en-US" sz="26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Rectangle 2"/>
          <p:cNvSpPr/>
          <p:nvPr/>
        </p:nvSpPr>
        <p:spPr>
          <a:xfrm>
            <a:off x="826920" y="476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50920" y="2349360"/>
            <a:ext cx="8281800" cy="3024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the thickening of the wall of the left ventricle is </a:t>
            </a:r>
            <a:r>
              <a:rPr b="1" lang="en-US" sz="2400" spc="-1" strike="noStrike">
                <a:solidFill>
                  <a:srgbClr val="ff0000"/>
                </a:solidFill>
                <a:latin typeface="Calibri"/>
              </a:rPr>
              <a:t>less than 16 mm</a:t>
            </a:r>
            <a:r>
              <a:rPr b="1" lang="en-US" sz="2400" spc="-1" strike="noStrike">
                <a:solidFill>
                  <a:srgbClr val="000000"/>
                </a:solidFill>
                <a:latin typeface="Calibri"/>
              </a:rPr>
              <a:t>, the changes are reversible, i.e. after stopping playing sports, in about 3-6 months, the heart muscle returns to its normal size and the heart cavity has a normal volum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if this thickening is </a:t>
            </a:r>
            <a:r>
              <a:rPr b="1" lang="en-US" sz="2400" spc="-1" strike="noStrike">
                <a:solidFill>
                  <a:srgbClr val="ff0000"/>
                </a:solidFill>
                <a:latin typeface="Calibri"/>
              </a:rPr>
              <a:t>greater than 16 mm</a:t>
            </a:r>
            <a:r>
              <a:rPr b="1" lang="en-US" sz="2400" spc="-1" strike="noStrike">
                <a:solidFill>
                  <a:srgbClr val="000000"/>
                </a:solidFill>
                <a:latin typeface="Calibri"/>
              </a:rPr>
              <a:t>, then it is a diseased heart and then the hypertrophy turns into </a:t>
            </a:r>
            <a:r>
              <a:rPr b="1" lang="en-US" sz="2400" spc="-1" strike="noStrike">
                <a:solidFill>
                  <a:srgbClr val="ff0000"/>
                </a:solidFill>
                <a:latin typeface="Calibri"/>
              </a:rPr>
              <a:t>myocardiopathy</a:t>
            </a:r>
            <a:r>
              <a:rPr b="1" lang="en-US" sz="2400" spc="-1" strike="noStrike">
                <a:solidFill>
                  <a:srgbClr val="000000"/>
                </a:solidFill>
                <a:latin typeface="Calibri"/>
              </a:rPr>
              <a:t>, which is </a:t>
            </a:r>
            <a:r>
              <a:rPr b="1" lang="en-US" sz="2400" spc="-1" strike="noStrike" u="sng">
                <a:solidFill>
                  <a:srgbClr val="000000"/>
                </a:solidFill>
                <a:uFillTx/>
                <a:latin typeface="Calibri"/>
              </a:rPr>
              <a:t>a pathological (diseased) condition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2"/>
          <p:cNvSpPr/>
          <p:nvPr/>
        </p:nvSpPr>
        <p:spPr>
          <a:xfrm>
            <a:off x="826920" y="98100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95280" y="1700280"/>
            <a:ext cx="8569440" cy="3673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st active athletes have a Sports </a:t>
            </a:r>
            <a:r>
              <a:rPr b="1" lang="sr-Latn-RS" sz="2400" spc="-1" strike="noStrike">
                <a:solidFill>
                  <a:srgbClr val="000000"/>
                </a:solidFill>
                <a:latin typeface="Calibri"/>
              </a:rPr>
              <a:t>h</a:t>
            </a:r>
            <a:r>
              <a:rPr b="1" lang="en-US" sz="2400" spc="-1" strike="noStrike">
                <a:solidFill>
                  <a:srgbClr val="000000"/>
                </a:solidFill>
                <a:latin typeface="Calibri"/>
              </a:rPr>
              <a:t>eart.</a:t>
            </a:r>
            <a:endParaRPr b="0" lang="en-US" sz="24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PORTS HEART IS A NORMAL, PHYSIOLOGICAL PHENOMENON</a:t>
            </a:r>
            <a:r>
              <a:rPr b="1" lang="en-US" sz="2400" spc="-1" strike="noStrike">
                <a:solidFill>
                  <a:srgbClr val="000000"/>
                </a:solidFill>
                <a:latin typeface="Calibri"/>
              </a:rPr>
              <a:t>, but over time it can turn into a disease state called </a:t>
            </a:r>
            <a:r>
              <a:rPr b="1" lang="en-US" sz="2400" spc="-1" strike="noStrike">
                <a:solidFill>
                  <a:srgbClr val="ff0000"/>
                </a:solidFill>
                <a:latin typeface="Calibri"/>
              </a:rPr>
              <a:t>MYOCARDIOPATHY</a:t>
            </a:r>
            <a:r>
              <a:rPr b="1" lang="sr-Latn-RS" sz="2400" spc="-1" strike="noStrike">
                <a:solidFill>
                  <a:srgbClr val="ff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people who have a SPORTS HEART, MYOCARDIOPATHY most often develops in the following two ca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have a genetic tendency to develop myocardiopathy, </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get over myocarditis during their lif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opathy develops in 2% of athletes with a 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a small number of athletes, who have a genetic disorder or have recovered from myocarditis, the sports heart changes from a normal (physiological) form to a diseased heart, so-called </a:t>
            </a:r>
            <a:r>
              <a:rPr b="1" lang="en-US" sz="2200" spc="-1" strike="noStrike">
                <a:solidFill>
                  <a:srgbClr val="ff0000"/>
                </a:solidFill>
                <a:latin typeface="Calibri"/>
              </a:rPr>
              <a:t>HYPERTROPHIC MYOCARDIOPATHY</a:t>
            </a:r>
            <a:r>
              <a:rPr b="1" lang="sr-Latn-RS" sz="2200" spc="-1" strike="noStrike">
                <a:solidFill>
                  <a:srgbClr val="ff0000"/>
                </a:solidFill>
                <a:latin typeface="Calibri"/>
              </a:rPr>
              <a:t>. </a:t>
            </a:r>
            <a:endParaRPr b="0" lang="en-US" sz="22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It is an excessive, asymmetric, disproportionate, pathological increase in the thickness of the heart walls.</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it, the wall of the left ventricle and the wall of the heart partition (septum) are thicker than 16 mm.</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hickening of the heart muscle does not spread from the outside but INSIDE and thus reduces the volume of the left heart chamber.</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ecause of this, the amount of blood that can enter the heart decreases, the amount of blood that the heart pumps into the blood vessels decreases, and thus the supply of blood and oxygen to the body decreases and serious health problems aris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myocardiopathy 1</a:t>
            </a:r>
            <a:endParaRPr b="0" lang="en-US" sz="2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332000" y="1828800"/>
            <a:ext cx="6048360" cy="5029200"/>
          </a:xfrm>
          <a:prstGeom prst="rect">
            <a:avLst/>
          </a:prstGeom>
          <a:ln w="0">
            <a:noFill/>
          </a:ln>
        </p:spPr>
      </p:pic>
      <p:sp>
        <p:nvSpPr>
          <p:cNvPr id="101" name="Rectangle 4"/>
          <p:cNvSpPr/>
          <p:nvPr/>
        </p:nvSpPr>
        <p:spPr>
          <a:xfrm>
            <a:off x="2124000" y="1557360"/>
            <a:ext cx="18543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por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art </a:t>
            </a:r>
            <a:endParaRPr b="0" lang="en-US" sz="2800" spc="-1" strike="noStrike">
              <a:solidFill>
                <a:srgbClr val="000000"/>
              </a:solidFill>
              <a:latin typeface="Arial"/>
            </a:endParaRPr>
          </a:p>
        </p:txBody>
      </p:sp>
      <p:sp>
        <p:nvSpPr>
          <p:cNvPr id="102" name="Rectangle 6"/>
          <p:cNvSpPr/>
          <p:nvPr/>
        </p:nvSpPr>
        <p:spPr>
          <a:xfrm>
            <a:off x="4734720" y="1557360"/>
            <a:ext cx="29253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a:t>
            </a:r>
            <a:endParaRPr b="0" lang="en-US" sz="2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7:59:30Z</dcterms:created>
  <dc:creator>Vlada Zivkovic</dc:creator>
  <dc:description/>
  <dc:language>en-US</dc:language>
  <cp:lastModifiedBy>x</cp:lastModifiedBy>
  <dcterms:modified xsi:type="dcterms:W3CDTF">2024-02-27T19:49:20Z</dcterms:modified>
  <cp:revision>445</cp:revision>
  <dc:subject/>
  <dc:title>Slide 1</dc:title>
</cp:coreProperties>
</file>